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gif" ContentType="image/gif"/>
  <Override PartName="/ppt/media/projctor.wav" ContentType="audio/x-wav"/>
  <Override PartName="/ppt/media/image14.png" ContentType="image/png"/>
  <Override PartName="/ppt/media/type.wav" ContentType="audio/x-wav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7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4072-33D4-47D0-B35D-2FF6AD3190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E0C-6016-40F7-B794-1D44295C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8AC-F772-48CA-A71B-D3FE1362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E34-CC08-410F-9683-7269402B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133-4811-4518-A28C-A66C1267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527-BD22-4DD1-8D3D-63F65308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CFF-D41A-46EC-907C-E3C9F89F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685-408F-41A5-BF9E-E28BF708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483-4EA2-4060-8445-A4C36D6D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C45-B945-46C7-BCEB-88C1F5C5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504-9C1B-43B5-9123-F215FB1A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8F0-7519-4220-9E84-46CE50AC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B95-0784-4187-A061-D924D318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5F46-2B61-4C0C-8E2A-81B0B266EB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79640" y="2349360"/>
            <a:ext cx="5638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中心对称图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89120" y="2133720"/>
            <a:ext cx="4573440" cy="1295280"/>
            <a:chOff x="2589120" y="2133720"/>
            <a:chExt cx="4573440" cy="1295280"/>
          </a:xfrm>
        </p:grpSpPr>
        <p:sp>
          <p:nvSpPr>
            <p:cNvPr id="148" name=""/>
            <p:cNvSpPr/>
            <p:nvPr/>
          </p:nvSpPr>
          <p:spPr>
            <a:xfrm rot="10800000">
              <a:off x="2589120" y="2133360"/>
              <a:ext cx="4573440" cy="1295280"/>
            </a:xfrm>
            <a:prstGeom prst="parallelogram">
              <a:avLst>
                <a:gd name="adj" fmla="val 112006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589120" y="2133720"/>
              <a:ext cx="4573440" cy="12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4643280" y="225324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4037760" y="2133720"/>
              <a:ext cx="1676880" cy="12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023360" y="1447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243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9560" y="243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2920" y="3429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611280" y="4437000"/>
            <a:ext cx="7421040" cy="2003400"/>
            <a:chOff x="611280" y="4437000"/>
            <a:chExt cx="7421040" cy="2003400"/>
          </a:xfrm>
        </p:grpSpPr>
        <p:pic>
          <p:nvPicPr>
            <p:cNvPr id="157" name="tnpic10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906560" y="4562640"/>
              <a:ext cx="2057040" cy="187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611280" y="4568760"/>
              <a:ext cx="1330200" cy="1420920"/>
              <a:chOff x="611280" y="4568760"/>
              <a:chExt cx="1330200" cy="142092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611280" y="4568760"/>
                <a:ext cx="380160" cy="31608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91440" y="4568760"/>
                <a:ext cx="569880" cy="142092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561320" y="5673240"/>
                <a:ext cx="379800" cy="31608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1280" y="4884840"/>
                <a:ext cx="1330200" cy="78840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61320" y="4568760"/>
                <a:ext cx="379800" cy="31608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991080" y="4568760"/>
                <a:ext cx="569880" cy="142092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7120" y="5659560"/>
                <a:ext cx="379800" cy="31464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11280" y="4884840"/>
                <a:ext cx="1330200" cy="78840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268520" y="4437000"/>
              <a:ext cx="1980720" cy="1731600"/>
              <a:chOff x="4268520" y="4437000"/>
              <a:chExt cx="1980720" cy="1731600"/>
            </a:xfrm>
          </p:grpSpPr>
          <p:sp>
            <p:nvSpPr>
              <p:cNvPr id="168" name=""/>
              <p:cNvSpPr/>
              <p:nvPr/>
            </p:nvSpPr>
            <p:spPr>
              <a:xfrm>
                <a:off x="4953960" y="5054760"/>
                <a:ext cx="580680" cy="581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73120" y="4437000"/>
                <a:ext cx="871200" cy="436680"/>
              </a:xfrm>
              <a:prstGeom prst="rtTriangl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5812920" y="5167440"/>
                <a:ext cx="436320" cy="696960"/>
              </a:xfrm>
              <a:prstGeom prst="rtTriangl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4648680" y="5822280"/>
                <a:ext cx="783720" cy="345960"/>
              </a:xfrm>
              <a:prstGeom prst="rtTriangl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4268520" y="4797360"/>
                <a:ext cx="436320" cy="784440"/>
              </a:xfrm>
              <a:prstGeom prst="rtTriangl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6630840" y="4713480"/>
              <a:ext cx="1401480" cy="1226880"/>
            </a:xfrm>
            <a:prstGeom prst="hexagon">
              <a:avLst>
                <a:gd name="adj" fmla="val 28558"/>
                <a:gd name="vf" fmla="val 115470"/>
              </a:avLst>
            </a:prstGeom>
            <a:noFill/>
            <a:ln w="104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87280" y="5157720"/>
            <a:ext cx="6289560" cy="369720"/>
            <a:chOff x="1187280" y="5157720"/>
            <a:chExt cx="6289560" cy="369720"/>
          </a:xfrm>
        </p:grpSpPr>
        <p:sp>
          <p:nvSpPr>
            <p:cNvPr id="175" name=""/>
            <p:cNvSpPr/>
            <p:nvPr/>
          </p:nvSpPr>
          <p:spPr>
            <a:xfrm>
              <a:off x="3041640" y="5283000"/>
              <a:ext cx="241200" cy="24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5640" y="5235480"/>
              <a:ext cx="241200" cy="24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38640" y="5240160"/>
              <a:ext cx="241200" cy="24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87280" y="5157720"/>
              <a:ext cx="241200" cy="24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042920" y="1341360"/>
            <a:ext cx="71629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平面内，一个图形绕某个点旋转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如果旋转前后的图形互相重合，那么这个图形叫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中心对称图形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这个点叫做它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对称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920" y="549360"/>
            <a:ext cx="115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定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433960" y="2772360"/>
            <a:ext cx="3339720" cy="3277440"/>
            <a:chOff x="2433960" y="2772360"/>
            <a:chExt cx="3339720" cy="3277440"/>
          </a:xfrm>
        </p:grpSpPr>
        <p:sp>
          <p:nvSpPr>
            <p:cNvPr id="182" name=""/>
            <p:cNvSpPr/>
            <p:nvPr/>
          </p:nvSpPr>
          <p:spPr>
            <a:xfrm rot="8946000">
              <a:off x="3995280" y="3501720"/>
              <a:ext cx="1656000" cy="93168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338800">
              <a:off x="3240000" y="3105000"/>
              <a:ext cx="1655640" cy="1008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28000">
              <a:off x="2555640" y="3573360"/>
              <a:ext cx="1655640" cy="9320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2499200">
              <a:off x="3995640" y="4293360"/>
              <a:ext cx="1656000" cy="93204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196600">
              <a:off x="3311280" y="4689360"/>
              <a:ext cx="1655640" cy="1008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8946000">
              <a:off x="2555280" y="4365720"/>
              <a:ext cx="1655640" cy="93168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74560" y="1557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下面的图案绕中心旋转多少度就可以与本身重合？他是中心对称图形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33960" y="2772360"/>
            <a:ext cx="3339720" cy="3277440"/>
            <a:chOff x="2433960" y="2772360"/>
            <a:chExt cx="3339720" cy="3277440"/>
          </a:xfrm>
        </p:grpSpPr>
        <p:sp>
          <p:nvSpPr>
            <p:cNvPr id="190" name=""/>
            <p:cNvSpPr/>
            <p:nvPr/>
          </p:nvSpPr>
          <p:spPr>
            <a:xfrm rot="8946000">
              <a:off x="3995280" y="3501720"/>
              <a:ext cx="1656000" cy="93168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338800">
              <a:off x="3240000" y="3105000"/>
              <a:ext cx="1655640" cy="1008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728000">
              <a:off x="2555640" y="3573360"/>
              <a:ext cx="1655640" cy="93204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2499200">
              <a:off x="3995640" y="4293360"/>
              <a:ext cx="1656000" cy="93204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196600">
              <a:off x="3311280" y="4689360"/>
              <a:ext cx="1655640" cy="1008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946000">
              <a:off x="2555280" y="4365720"/>
              <a:ext cx="1655640" cy="93168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rot="1728000">
            <a:off x="2555640" y="3573360"/>
            <a:ext cx="1655640" cy="9320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0686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0°180°240°30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26920" y="404640"/>
            <a:ext cx="29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752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对比轴对称图形与中心对称图形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2971800"/>
          <a:ext cx="7848360" cy="2612880"/>
        </p:xfrm>
        <a:graphic>
          <a:graphicData uri="http://schemas.openxmlformats.org/drawingml/2006/table">
            <a:tbl>
              <a:tblPr/>
              <a:tblGrid>
                <a:gridCol w="3925800"/>
                <a:gridCol w="392256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507c0"/>
                          </a:solidFill>
                          <a:latin typeface="Arial"/>
                        </a:rPr>
                        <a:t>轴对称图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507c0"/>
                          </a:solidFill>
                          <a:latin typeface="Arial"/>
                        </a:rPr>
                        <a:t>中心对称图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50840" y="3767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有一条对称轴——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83200" y="36957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一个对称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2480" y="441468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沿轴对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1080" y="4414680"/>
            <a:ext cx="28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绕这个点旋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8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99840" y="4991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折部分与另一部分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60280" y="5064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旋转后与原图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001000" y="1523880"/>
            <a:ext cx="949320" cy="914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19320" y="3049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2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比一比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74520"/>
            <a:ext cx="88200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17524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在一次游戏当中，小明将下面左图的四张扑克牌中的一张旋转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后，得到右图，小亮看完很快知道小明旋转了哪一张扑克，你知道为什么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520" y="3733920"/>
            <a:ext cx="8262720" cy="1312920"/>
            <a:chOff x="533520" y="3733920"/>
            <a:chExt cx="8262720" cy="131292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2389320" y="3733920"/>
              <a:ext cx="8604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533520" y="3733920"/>
              <a:ext cx="8618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1452600" y="3733920"/>
              <a:ext cx="8636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3326040" y="3733920"/>
              <a:ext cx="8618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7000920" y="3749760"/>
              <a:ext cx="8604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5127840" y="3749760"/>
              <a:ext cx="8618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6062760" y="3749760"/>
              <a:ext cx="8636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7934400" y="3749760"/>
              <a:ext cx="86184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457200" y="228600"/>
            <a:ext cx="2666520" cy="914040"/>
            <a:chOff x="457200" y="228600"/>
            <a:chExt cx="2666520" cy="914040"/>
          </a:xfrm>
        </p:grpSpPr>
        <p:sp>
          <p:nvSpPr>
            <p:cNvPr id="225" name=""/>
            <p:cNvSpPr/>
            <p:nvPr/>
          </p:nvSpPr>
          <p:spPr>
            <a:xfrm>
              <a:off x="457200" y="748800"/>
              <a:ext cx="2482560" cy="39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84480" y="228600"/>
              <a:ext cx="183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议一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9000" y="669960"/>
              <a:ext cx="735120" cy="3150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5120" y="924480"/>
              <a:ext cx="183600" cy="1573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9000" y="354600"/>
              <a:ext cx="735120" cy="3942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000" y="276120"/>
              <a:ext cx="733680" cy="157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5120" y="27612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490480" y="1136520"/>
            <a:ext cx="43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其中一个图案绕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有什么发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观   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6200" y="1916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段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把  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有什么发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08000" y="3341520"/>
            <a:ext cx="2556000" cy="2643480"/>
            <a:chOff x="1008000" y="3341520"/>
            <a:chExt cx="2556000" cy="2643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rcRect l="0" t="0" r="0" b="60454"/>
            <a:stretch/>
          </p:blipFill>
          <p:spPr>
            <a:xfrm>
              <a:off x="1187280" y="3341520"/>
              <a:ext cx="237672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rcRect l="0" t="58070" r="30392" b="-10884"/>
            <a:stretch/>
          </p:blipFill>
          <p:spPr>
            <a:xfrm>
              <a:off x="1008000" y="4761000"/>
              <a:ext cx="1654200" cy="122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"/>
            <p:cNvGrpSpPr/>
            <p:nvPr/>
          </p:nvGrpSpPr>
          <p:grpSpPr>
            <a:xfrm>
              <a:off x="2340000" y="4411800"/>
              <a:ext cx="899640" cy="459720"/>
              <a:chOff x="2340000" y="4411800"/>
              <a:chExt cx="899640" cy="45972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0000" y="4586400"/>
                <a:ext cx="72720" cy="72720"/>
              </a:xfrm>
              <a:prstGeom prst="flowChartConnector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47640" y="441180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1187280" y="3321000"/>
            <a:ext cx="2376360" cy="2289240"/>
            <a:chOff x="1187280" y="3321000"/>
            <a:chExt cx="2376360" cy="228924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rcRect l="0" t="0" r="0" b="57648"/>
            <a:stretch/>
          </p:blipFill>
          <p:spPr>
            <a:xfrm>
              <a:off x="1187280" y="3321000"/>
              <a:ext cx="23763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187280" y="4316400"/>
              <a:ext cx="237636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859280" y="4002120"/>
            <a:ext cx="3457440" cy="1623960"/>
            <a:chOff x="4859280" y="4002120"/>
            <a:chExt cx="3457440" cy="1623960"/>
          </a:xfrm>
        </p:grpSpPr>
        <p:pic>
          <p:nvPicPr>
            <p:cNvPr id="245" name="" descr=""/>
            <p:cNvPicPr/>
            <p:nvPr/>
          </p:nvPicPr>
          <p:blipFill>
            <a:blip r:embed="rId4"/>
            <a:srcRect l="48970" t="0" r="0" b="20690"/>
            <a:stretch/>
          </p:blipFill>
          <p:spPr>
            <a:xfrm>
              <a:off x="6589440" y="4002120"/>
              <a:ext cx="1727280" cy="12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rcRect l="7515" t="0" r="49994" b="20690"/>
            <a:stretch/>
          </p:blipFill>
          <p:spPr>
            <a:xfrm>
              <a:off x="5149800" y="4005000"/>
              <a:ext cx="147456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164000" y="518616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59280" y="5113080"/>
              <a:ext cx="75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38640" y="525780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bc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9bc0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009bc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941720" y="3933720"/>
            <a:ext cx="3375000" cy="1727280"/>
            <a:chOff x="4941720" y="3933720"/>
            <a:chExt cx="3375000" cy="1727280"/>
          </a:xfrm>
        </p:grpSpPr>
        <p:pic>
          <p:nvPicPr>
            <p:cNvPr id="251" name="" descr=""/>
            <p:cNvPicPr/>
            <p:nvPr/>
          </p:nvPicPr>
          <p:blipFill>
            <a:blip r:embed="rId6"/>
            <a:srcRect l="48958" t="0" r="0" b="20690"/>
            <a:stretch/>
          </p:blipFill>
          <p:spPr>
            <a:xfrm>
              <a:off x="6589440" y="4003560"/>
              <a:ext cx="17272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941720" y="3933720"/>
              <a:ext cx="1727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635120" y="569448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重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5694480"/>
            <a:ext cx="20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重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44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6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413000"/>
            <a:ext cx="773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一个图形绕着某一个点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如果它能够和另一个图形重合，那么就说这两个图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于这个点成中心对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点就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称中心，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</a:rPr>
              <a:t>这两个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800" spc="-1" strike="noStrike">
                <a:solidFill>
                  <a:srgbClr val="c507c0"/>
                </a:solidFill>
                <a:latin typeface="Times New Roman"/>
              </a:rPr>
              <a:t>对应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于中心的对称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归纳定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71640" y="4398840"/>
            <a:ext cx="3456000" cy="1549440"/>
            <a:chOff x="971640" y="4398840"/>
            <a:chExt cx="3456000" cy="154944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rcRect l="48970" t="0" r="0" b="20690"/>
            <a:stretch/>
          </p:blipFill>
          <p:spPr>
            <a:xfrm>
              <a:off x="2700360" y="4400280"/>
              <a:ext cx="1727280" cy="12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"/>
            <a:srcRect l="7515" t="0" r="49994" b="20690"/>
            <a:stretch/>
          </p:blipFill>
          <p:spPr>
            <a:xfrm>
              <a:off x="1262160" y="4398840"/>
              <a:ext cx="147456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276720" y="558000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1640" y="550692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788000" y="4359240"/>
            <a:ext cx="3633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，对称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916360" y="333360"/>
            <a:ext cx="5976720" cy="1922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下图中△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B′C′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与△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ABC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关于点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O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是成中心对称的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你能从图中找到哪些等量关系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260280"/>
            <a:ext cx="1800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solidFill>
                    <a:srgbClr val="ff0000"/>
                  </a:solidFill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索</a:t>
            </a:r>
            <a:r>
              <a:rPr b="0" lang="en-US" sz="2400" spc="1" strike="noStrike">
                <a:ln w="0">
                  <a:solidFill>
                    <a:srgbClr val="ff0000"/>
                  </a:solidFill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2400" spc="1" strike="noStrike">
              <a:ln w="0">
                <a:solidFill>
                  <a:srgbClr val="ff0000"/>
                </a:solidFill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4120" y="2349000"/>
            <a:ext cx="6297840" cy="3261240"/>
            <a:chOff x="834120" y="2349000"/>
            <a:chExt cx="6297840" cy="3261240"/>
          </a:xfrm>
        </p:grpSpPr>
        <p:grpSp>
          <p:nvGrpSpPr>
            <p:cNvPr id="266" name=""/>
            <p:cNvGrpSpPr/>
            <p:nvPr/>
          </p:nvGrpSpPr>
          <p:grpSpPr>
            <a:xfrm>
              <a:off x="5678280" y="3331800"/>
              <a:ext cx="912600" cy="1827000"/>
              <a:chOff x="5678280" y="3331800"/>
              <a:chExt cx="912600" cy="182700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5678280" y="3331800"/>
                <a:ext cx="480960" cy="18266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78640" y="3332520"/>
                <a:ext cx="912240" cy="309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159240" y="3642120"/>
                <a:ext cx="431280" cy="1516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359360" y="2890080"/>
              <a:ext cx="5204160" cy="2274480"/>
              <a:chOff x="1359360" y="2890080"/>
              <a:chExt cx="5204160" cy="22744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359360" y="2890080"/>
                <a:ext cx="912600" cy="1826640"/>
                <a:chOff x="1359360" y="2890080"/>
                <a:chExt cx="912600" cy="1826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791360" y="2890080"/>
                  <a:ext cx="480600" cy="182664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1359360" y="4406400"/>
                  <a:ext cx="912240" cy="30960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1360080" y="2890080"/>
                  <a:ext cx="431280" cy="151632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360080" y="2890080"/>
                <a:ext cx="5203440" cy="2274480"/>
                <a:chOff x="1360080" y="2890080"/>
                <a:chExt cx="5203440" cy="2274480"/>
              </a:xfrm>
            </p:grpSpPr>
            <p:sp>
              <p:nvSpPr>
                <p:cNvPr id="276" name=""/>
                <p:cNvSpPr/>
                <p:nvPr/>
              </p:nvSpPr>
              <p:spPr>
                <a:xfrm rot="20715000">
                  <a:off x="3897360" y="4000680"/>
                  <a:ext cx="100440" cy="882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2271240" y="3338640"/>
                  <a:ext cx="3379320" cy="137628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791360" y="2890080"/>
                  <a:ext cx="4338360" cy="227448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360080" y="3647160"/>
                  <a:ext cx="5203440" cy="75924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 rot="20715000">
              <a:off x="6153480" y="489276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A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0715000">
              <a:off x="6390720" y="331164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B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0715000">
              <a:off x="5333400" y="279360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C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715000">
              <a:off x="1416240" y="242352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715000">
              <a:off x="904680" y="4163400"/>
              <a:ext cx="66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715000">
              <a:off x="1980360" y="456588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715000">
              <a:off x="3639960" y="395532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5373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(1)OA=OA′</a:t>
            </a: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OB=OB′</a:t>
            </a: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、 </a:t>
            </a: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OC=OC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59450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△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ABC≌△A′B′C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79280" y="260280"/>
            <a:ext cx="87138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归纳：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在成中心对称的两个图形中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连接对称点的线段都经过对称中心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并且被对称中心平分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关于中心对称的两个图形是全等图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6360" y="52354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们都是轴对称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084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们沿着某条直线对折后，直线两旁的部分能完全重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4000" y="1852560"/>
            <a:ext cx="8381880" cy="1968480"/>
            <a:chOff x="324000" y="1852560"/>
            <a:chExt cx="8381880" cy="19684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976760" y="1852560"/>
              <a:ext cx="251460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2081160"/>
              <a:ext cx="18684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4491360" y="2233440"/>
              <a:ext cx="191916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6648480" y="2081160"/>
              <a:ext cx="2057400" cy="15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 flipH="1" flipV="1">
            <a:off x="1186920" y="1492200"/>
            <a:ext cx="125640" cy="254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138120" y="1450440"/>
            <a:ext cx="157320" cy="2529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08640" y="1498680"/>
            <a:ext cx="27000" cy="2512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699320" y="1498680"/>
            <a:ext cx="27000" cy="2512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620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知识回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4137120" y="4893840"/>
            <a:ext cx="60948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84280" y="4893840"/>
            <a:ext cx="609840" cy="838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65520" y="4513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32200" y="573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94320" y="4437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79720" y="580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384280" y="4741920"/>
            <a:ext cx="2895840" cy="990720"/>
          </a:xfrm>
          <a:prstGeom prst="line">
            <a:avLst/>
          </a:prstGeom>
          <a:ln cap="rnd" w="442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94120" y="4894200"/>
            <a:ext cx="1904760" cy="1447920"/>
          </a:xfrm>
          <a:prstGeom prst="line">
            <a:avLst/>
          </a:prstGeom>
          <a:ln cap="rnd" w="442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1320" y="4818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50920" y="3357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线段的中心对称线段的作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86360" y="573264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83240" y="4894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66320" y="4413960"/>
            <a:ext cx="1373040" cy="174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82" y="12394"/>
                </a:moveTo>
                <a:arcTo wR="10800" hR="10800" stAng="509374" swAng="3542457"/>
                <a:lnTo>
                  <a:pt x="10800" y="10800"/>
                </a:lnTo>
                <a:close/>
              </a:path>
              <a:path fill="none" w="21600" h="21600">
                <a:moveTo>
                  <a:pt x="21482" y="12394"/>
                </a:moveTo>
                <a:arcTo wR="10800" hR="10800" stAng="509374" swAng="354245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44480" y="4262400"/>
            <a:ext cx="2282760" cy="213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94" y="1816"/>
                </a:moveTo>
                <a:arcTo wR="10800" hR="10800" stAng="-3377241" swAng="4265663"/>
                <a:lnTo>
                  <a:pt x="10800" y="10800"/>
                </a:lnTo>
                <a:close/>
              </a:path>
              <a:path fill="none" w="21600" h="21600">
                <a:moveTo>
                  <a:pt x="16794" y="1816"/>
                </a:moveTo>
                <a:arcTo wR="10800" hR="10800" stAng="-3377241" swAng="426566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27280" y="52880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35280" y="2844720"/>
            <a:ext cx="2125440" cy="1800"/>
          </a:xfrm>
          <a:prstGeom prst="line">
            <a:avLst/>
          </a:prstGeom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14400" y="2806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71800" y="2806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05120" y="2806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62120" y="242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27280" y="234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95840" y="242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981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点的中心对称点的作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53280" y="1949040"/>
            <a:ext cx="2056320" cy="190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23" y="3683"/>
                </a:moveTo>
                <a:arcTo wR="10800" hR="10800" stAng="-2473451" swAng="4072432"/>
                <a:lnTo>
                  <a:pt x="10800" y="10800"/>
                </a:lnTo>
                <a:close/>
              </a:path>
              <a:path fill="none" w="21600" h="21600">
                <a:moveTo>
                  <a:pt x="18923" y="3683"/>
                </a:moveTo>
                <a:arcTo wR="10800" hR="10800" stAng="-2473451" swAng="4072432"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404640"/>
            <a:ext cx="41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灵活运用，体会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155736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对称中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3933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以点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为对称中心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作出线段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的对称线段点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′B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88560" y="270828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为所求的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14560" y="3195720"/>
            <a:ext cx="1439640" cy="1280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33520" y="1046160"/>
            <a:ext cx="792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如图，选择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对称中心，画出与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的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71640" y="4091040"/>
            <a:ext cx="1116000" cy="22212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258920" y="4025880"/>
            <a:ext cx="2495520" cy="28728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63640" y="3341520"/>
            <a:ext cx="1474920" cy="190692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81280" y="42274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19440" y="5038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86240" y="362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009960" y="4025880"/>
            <a:ext cx="6364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059280" y="4025880"/>
            <a:ext cx="5508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950920" y="4289400"/>
            <a:ext cx="144360" cy="78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0080" y="4964040"/>
            <a:ext cx="55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△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为所求的三角形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502452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00360" y="4016520"/>
            <a:ext cx="46080" cy="4572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63880" y="428940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71120" y="291132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延长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到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0520" y="38829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点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18080" y="4459320"/>
            <a:ext cx="47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顺次连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35080" y="2822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2097360"/>
            <a:ext cx="81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分析：确定一个三角形需要几个点？作一个三角形关于某点成中心对称的三角形，需要作几个点的对称点呢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756400"/>
            <a:ext cx="83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你是如何理解“对称点所连线段都经过对称中心，而且被对称中心所平分”的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3049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已知四边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画四边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′B′C′D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它与已知四边形关于这一点对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4038480"/>
            <a:ext cx="76320" cy="76320"/>
          </a:xfrm>
          <a:prstGeom prst="ellipse">
            <a:avLst/>
          </a:prstGeom>
          <a:solidFill>
            <a:srgbClr val="bbe0e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2285640" y="4000320"/>
            <a:ext cx="4267080" cy="228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74840" y="2730600"/>
            <a:ext cx="2438640" cy="266688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514600"/>
            <a:ext cx="1219320" cy="1447920"/>
          </a:xfrm>
          <a:custGeom>
            <a:avLst/>
            <a:gdLst/>
            <a:ahLst/>
            <a:rect l="l" t="t" r="r" b="b"/>
            <a:pathLst>
              <a:path w="768" h="912">
                <a:moveTo>
                  <a:pt x="192" y="912"/>
                </a:moveTo>
                <a:lnTo>
                  <a:pt x="768" y="144"/>
                </a:lnTo>
                <a:lnTo>
                  <a:pt x="288" y="0"/>
                </a:lnTo>
                <a:lnTo>
                  <a:pt x="0" y="336"/>
                </a:lnTo>
                <a:lnTo>
                  <a:pt x="192" y="91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0941000">
            <a:off x="5637960" y="4190760"/>
            <a:ext cx="1219320" cy="1447560"/>
          </a:xfrm>
          <a:custGeom>
            <a:avLst/>
            <a:gdLst/>
            <a:ahLst/>
            <a:rect l="l" t="t" r="r" b="b"/>
            <a:pathLst>
              <a:path w="768" h="912">
                <a:moveTo>
                  <a:pt x="192" y="912"/>
                </a:moveTo>
                <a:lnTo>
                  <a:pt x="768" y="144"/>
                </a:lnTo>
                <a:lnTo>
                  <a:pt x="288" y="0"/>
                </a:lnTo>
                <a:lnTo>
                  <a:pt x="0" y="336"/>
                </a:lnTo>
                <a:lnTo>
                  <a:pt x="192" y="91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008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2514600"/>
            <a:ext cx="3886200" cy="312408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35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6480" y="48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980720" y="3048120"/>
            <a:ext cx="4800600" cy="2133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72400" y="6021360"/>
            <a:ext cx="35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边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为所求的图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如图，已知</a:t>
            </a:r>
            <a:r>
              <a:rPr b="1" lang="zh-CN" sz="4000" spc="-1" strike="noStrike">
                <a:solidFill>
                  <a:srgbClr val="0e0c02"/>
                </a:solidFill>
                <a:latin typeface="宋体"/>
              </a:rPr>
              <a:t>△</a:t>
            </a:r>
            <a:r>
              <a:rPr b="1" i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ABC</a:t>
            </a:r>
            <a:r>
              <a:rPr b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0e0c02"/>
                </a:solidFill>
                <a:latin typeface="宋体"/>
              </a:rPr>
              <a:t>△</a:t>
            </a:r>
            <a:r>
              <a:rPr b="1" i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A’B’C’</a:t>
            </a:r>
            <a:r>
              <a:rPr b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中心对称，求出它们的对称中心</a:t>
            </a:r>
            <a:r>
              <a:rPr b="1" i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O</a:t>
            </a:r>
            <a:r>
              <a:rPr b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475640" y="2637000"/>
            <a:ext cx="5785200" cy="2868840"/>
            <a:chOff x="1475640" y="2637000"/>
            <a:chExt cx="5785200" cy="2868840"/>
          </a:xfrm>
        </p:grpSpPr>
        <p:grpSp>
          <p:nvGrpSpPr>
            <p:cNvPr id="361" name=""/>
            <p:cNvGrpSpPr/>
            <p:nvPr/>
          </p:nvGrpSpPr>
          <p:grpSpPr>
            <a:xfrm>
              <a:off x="1704960" y="3179880"/>
              <a:ext cx="1848960" cy="1541160"/>
              <a:chOff x="1704960" y="3179880"/>
              <a:chExt cx="1848960" cy="154116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1704960" y="3181680"/>
                <a:ext cx="949320" cy="15390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58960" y="3179880"/>
                <a:ext cx="894960" cy="100296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04960" y="4185000"/>
                <a:ext cx="1843200" cy="5360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019480" y="3565800"/>
              <a:ext cx="1848960" cy="1540800"/>
              <a:chOff x="5019480" y="3565800"/>
              <a:chExt cx="1848960" cy="154080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5919120" y="3565800"/>
                <a:ext cx="949320" cy="15386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5019480" y="4104000"/>
                <a:ext cx="894960" cy="1002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025240" y="3565800"/>
                <a:ext cx="1843200" cy="535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475640" y="461808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09000" y="400860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42680" y="26370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76000" y="311796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16800" y="357516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08240" y="5018040"/>
              <a:ext cx="40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 txBox="1"/>
          <p:nvPr/>
        </p:nvSpPr>
        <p:spPr>
          <a:xfrm>
            <a:off x="250920" y="2602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应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法一：根据观察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是对应点，连结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B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用刻度尺找出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B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中点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点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为所求（如图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657600" y="4422240"/>
            <a:ext cx="1295280" cy="2955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84720" y="4508640"/>
            <a:ext cx="69840" cy="71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e0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546920" y="3141720"/>
            <a:ext cx="5842440" cy="2694240"/>
            <a:chOff x="1546920" y="3141720"/>
            <a:chExt cx="5842440" cy="2694240"/>
          </a:xfrm>
        </p:grpSpPr>
        <p:grpSp>
          <p:nvGrpSpPr>
            <p:cNvPr id="380" name=""/>
            <p:cNvGrpSpPr/>
            <p:nvPr/>
          </p:nvGrpSpPr>
          <p:grpSpPr>
            <a:xfrm>
              <a:off x="1778040" y="3684600"/>
              <a:ext cx="1898280" cy="1582200"/>
              <a:chOff x="1778040" y="3684600"/>
              <a:chExt cx="1898280" cy="1582200"/>
            </a:xfrm>
          </p:grpSpPr>
          <p:sp>
            <p:nvSpPr>
              <p:cNvPr id="381" name=""/>
              <p:cNvSpPr/>
              <p:nvPr/>
            </p:nvSpPr>
            <p:spPr>
              <a:xfrm flipV="1">
                <a:off x="1778040" y="3686760"/>
                <a:ext cx="974520" cy="15800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57600" y="3684600"/>
                <a:ext cx="918720" cy="1029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1778040" y="4716720"/>
                <a:ext cx="1892520" cy="5500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026320" y="3850200"/>
              <a:ext cx="1898280" cy="1582200"/>
              <a:chOff x="5026320" y="3850200"/>
              <a:chExt cx="1898280" cy="158220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5950080" y="3850200"/>
                <a:ext cx="974520" cy="15800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5026320" y="4402800"/>
                <a:ext cx="918720" cy="1029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032080" y="3850200"/>
                <a:ext cx="1892520" cy="5500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546920" y="512280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29800" y="466560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39800" y="314172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04520" y="344340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23440" y="382428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38560" y="5348160"/>
              <a:ext cx="40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60520" y="39085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925800" y="378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解法二：根据观察，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及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应是两组对应点，连结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B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C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，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B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C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相交于点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，则点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即为所求（如图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786120" y="4379760"/>
            <a:ext cx="704880" cy="1605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3519360"/>
            <a:ext cx="2525760" cy="18828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40360" y="4437000"/>
            <a:ext cx="69840" cy="71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e0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618560" y="2997360"/>
            <a:ext cx="5262840" cy="2775240"/>
            <a:chOff x="1618560" y="2997360"/>
            <a:chExt cx="5262840" cy="2775240"/>
          </a:xfrm>
        </p:grpSpPr>
        <p:grpSp>
          <p:nvGrpSpPr>
            <p:cNvPr id="401" name=""/>
            <p:cNvGrpSpPr/>
            <p:nvPr/>
          </p:nvGrpSpPr>
          <p:grpSpPr>
            <a:xfrm>
              <a:off x="1925640" y="3540240"/>
              <a:ext cx="1898280" cy="1584360"/>
              <a:chOff x="1925640" y="3540240"/>
              <a:chExt cx="1898280" cy="158436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1925640" y="3542760"/>
                <a:ext cx="974520" cy="15818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05200" y="3540240"/>
                <a:ext cx="918720" cy="1030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925640" y="4573440"/>
                <a:ext cx="1892520" cy="5508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4521600" y="3862080"/>
              <a:ext cx="1898280" cy="1584360"/>
              <a:chOff x="4521600" y="3862080"/>
              <a:chExt cx="1898280" cy="158436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5445360" y="3862080"/>
                <a:ext cx="974520" cy="15818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4521600" y="4415760"/>
                <a:ext cx="918720" cy="1030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4527360" y="3862440"/>
                <a:ext cx="1892520" cy="5508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618560" y="497988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77400" y="452124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87040" y="29973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96560" y="353232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39160" y="383544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54280" y="5284800"/>
              <a:ext cx="40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71640" y="2781360"/>
            <a:ext cx="6337080" cy="715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今天你学到了什么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877080" y="620640"/>
            <a:ext cx="21938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6040" y="157464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下列各图形中，是轴对称图形的有（　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5800" y="3657600"/>
            <a:ext cx="7848720" cy="2181600"/>
            <a:chOff x="685800" y="3657600"/>
            <a:chExt cx="7848720" cy="2181600"/>
          </a:xfrm>
        </p:grpSpPr>
        <p:grpSp>
          <p:nvGrpSpPr>
            <p:cNvPr id="65" name=""/>
            <p:cNvGrpSpPr/>
            <p:nvPr/>
          </p:nvGrpSpPr>
          <p:grpSpPr>
            <a:xfrm>
              <a:off x="914400" y="3657600"/>
              <a:ext cx="7391520" cy="1376280"/>
              <a:chOff x="914400" y="3657600"/>
              <a:chExt cx="7391520" cy="1376280"/>
            </a:xfrm>
          </p:grpSpPr>
          <p:sp>
            <p:nvSpPr>
              <p:cNvPr id="66" name=""/>
              <p:cNvSpPr/>
              <p:nvPr/>
            </p:nvSpPr>
            <p:spPr>
              <a:xfrm>
                <a:off x="914400" y="3809880"/>
                <a:ext cx="1447920" cy="121932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95840" y="3919680"/>
                <a:ext cx="1143000" cy="11095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24640" y="3657600"/>
                <a:ext cx="1447560" cy="1376280"/>
              </a:xfrm>
              <a:prstGeom prst="pentagon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8000" y="3733920"/>
                <a:ext cx="1447920" cy="1252440"/>
              </a:xfrm>
              <a:prstGeom prst="hexagon">
                <a:avLst>
                  <a:gd name="adj" fmla="val 28902"/>
                  <a:gd name="vf" fmla="val 115470"/>
                </a:avLst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85800" y="52578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正三角形    正方形      正五边形     正六边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206064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平行四边形绕着对角线的交点旋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80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你会得出什么样的结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89000"/>
            <a:ext cx="2232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做一做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400536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484360" y="4005360"/>
            <a:ext cx="4572000" cy="129528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2280" y="4005360"/>
            <a:ext cx="1676520" cy="129528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920" y="2133720"/>
            <a:ext cx="4572000" cy="1295280"/>
            <a:chOff x="2590920" y="2133720"/>
            <a:chExt cx="4572000" cy="1295280"/>
          </a:xfrm>
        </p:grpSpPr>
        <p:sp>
          <p:nvSpPr>
            <p:cNvPr id="82" name=""/>
            <p:cNvSpPr/>
            <p:nvPr/>
          </p:nvSpPr>
          <p:spPr>
            <a:xfrm>
              <a:off x="2590920" y="213372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590920" y="2133720"/>
              <a:ext cx="4572000" cy="12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3800" y="26668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38480" y="2133720"/>
              <a:ext cx="1676520" cy="12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2800" y="1339920"/>
            <a:ext cx="4728240" cy="2882880"/>
            <a:chOff x="2512800" y="1339920"/>
            <a:chExt cx="4728240" cy="2882880"/>
          </a:xfrm>
        </p:grpSpPr>
        <p:sp>
          <p:nvSpPr>
            <p:cNvPr id="92" name=""/>
            <p:cNvSpPr/>
            <p:nvPr/>
          </p:nvSpPr>
          <p:spPr>
            <a:xfrm rot="20308200">
              <a:off x="2590920" y="213372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988000" y="1339920"/>
              <a:ext cx="3777840" cy="2882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308200">
              <a:off x="4651920" y="26650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9200" y="2486520"/>
              <a:ext cx="2035080" cy="58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793480" y="272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040" y="4038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6760" y="213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31560" y="762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8720" y="455400"/>
            <a:ext cx="1616400" cy="4652280"/>
            <a:chOff x="4068720" y="455400"/>
            <a:chExt cx="1616400" cy="4652280"/>
          </a:xfrm>
        </p:grpSpPr>
        <p:sp>
          <p:nvSpPr>
            <p:cNvPr id="106" name=""/>
            <p:cNvSpPr/>
            <p:nvPr/>
          </p:nvSpPr>
          <p:spPr>
            <a:xfrm rot="15955800">
              <a:off x="2590560" y="213372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068720" y="547200"/>
              <a:ext cx="1616400" cy="4468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5955800">
              <a:off x="4817880" y="24804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290480" y="1899360"/>
              <a:ext cx="1172880" cy="176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659760" y="3808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6280" y="1447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6280" y="48006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11320" y="3429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71200" y="872280"/>
            <a:ext cx="4411440" cy="3818160"/>
            <a:chOff x="2671200" y="872280"/>
            <a:chExt cx="4411440" cy="3818160"/>
          </a:xfrm>
        </p:grpSpPr>
        <p:sp>
          <p:nvSpPr>
            <p:cNvPr id="120" name=""/>
            <p:cNvSpPr/>
            <p:nvPr/>
          </p:nvSpPr>
          <p:spPr>
            <a:xfrm rot="13059000">
              <a:off x="2590920" y="213336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671200" y="1897920"/>
              <a:ext cx="4411440" cy="1766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3059000">
              <a:off x="4763160" y="23176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4609080" y="1756800"/>
              <a:ext cx="536040" cy="204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98040" y="1219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6480" y="3429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8360" y="36576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8160" y="15238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502360" y="1607760"/>
            <a:ext cx="4749120" cy="2347200"/>
            <a:chOff x="2502360" y="1607760"/>
            <a:chExt cx="4749120" cy="2347200"/>
          </a:xfrm>
        </p:grpSpPr>
        <p:sp>
          <p:nvSpPr>
            <p:cNvPr id="134" name=""/>
            <p:cNvSpPr/>
            <p:nvPr/>
          </p:nvSpPr>
          <p:spPr>
            <a:xfrm rot="11626800">
              <a:off x="2590920" y="213372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02360" y="2696760"/>
              <a:ext cx="4749120" cy="16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626800">
              <a:off x="4692600" y="22672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217400" y="1952640"/>
              <a:ext cx="1319400" cy="1657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023360" y="1447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1040" y="243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9560" y="243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2920" y="3429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少年智力开发报·数学专页</dc:creator>
  <dc:description>数学专页集十年辅导教学之经验、八年教育软件之执着、六年教学资源网站之专注，值此十周年之际，向广大师生隆重推出新一代备课平台----《数学专页备课王》！</dc:description>
  <cp:keywords>备课王 数学专页</cp:keywords>
  <dc:language>en-US</dc:language>
  <cp:lastModifiedBy>yinhe</cp:lastModifiedBy>
  <dcterms:modified xsi:type="dcterms:W3CDTF">2013-11-20T08:18:09Z</dcterms:modified>
  <cp:revision>26</cp:revision>
  <dc:subject>数学专页备课王</dc:subject>
  <dc:title>数学专页备课王资源文件</dc:title>
</cp:coreProperties>
</file>